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3C7-0081-4A8C-9CE2-F9F856328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g 120-121 in text for explanation of why time is hard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1D9-C5CF-4BB5-91F4-EAED2FF9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FA9-E967-4AD1-AE51-B75430AC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CF7-E5A3-4B6F-ADBC-9D3DDB62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F39-9F78-45F2-8039-FBD33B4E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B53-F4A6-45C9-BEBB-41111932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1FC5-A95F-45AE-A5D4-E883A3B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A75-330E-4446-88CF-9F4D85C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FD4D-CB13-4162-BA5B-831E4DA5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6BF3-F525-49CE-B319-88DBB6F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0B8C-E8D7-4042-A6B9-AFC34837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3A5-FBBE-4A04-BD89-6A14A28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C8E-71C7-401B-B969-C6FEABA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77E-40B8-443E-9F59-9E814B2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0805-D16B-4A19-9DF6-0A1B9EF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8E0-61C5-42FF-B987-60072949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B843-4CBC-4C93-89BB-7EC379C9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A982-1E3C-44B6-946D-174A0FFB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29B-CEBC-48CA-AB35-EB23390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51D-B722-45E2-81E2-939F083C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486-22CF-4575-AB4B-22070B2A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5A2-1736-4F57-AA3B-93BE355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916-CB2B-4FD8-93BA-937095B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683-24AB-46E0-869E-235532F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46B-210F-4481-B50D-03EB62C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95FD-834D-40BA-A8E2-2CEC2D51A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22B-BD2F-4ACA-9924-71729069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rolog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y of body flui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86280" y="152280"/>
            <a:ext cx="2893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tigen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tance, usually a protein, that stimulates the body to produce antibodies to fight an intr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15 known blood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47720" y="49536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antigen, there is an anti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tibody is highly specific, this means that only recognizes and interacts with its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ination of antigen and antibody forms an antigen-antibody complex – the basis for blood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do you type blood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tiserum to test for agglutination (cl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 A – will make type A cl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 B – will make type B cl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 will not clump with either Anti A or Anti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 Rh – will make Rh+ cl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me Blood Statist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% of Americans have type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Americans have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% of Americans have typ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of Americans have type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83120" y="2133720"/>
            <a:ext cx="334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is the Universal Dono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 receive blood from A &amp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o A &amp;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 receive blood from B &amp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o B &amp;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- receive blood from A, B, AB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o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is the Universal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- receive blood from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to A, B, AB,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s the Universal Do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o do with crime scene blood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each blood sample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cenes with multiple victims, typing and antigen-antibody complexes help reconstruct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10160" y="2709720"/>
            <a:ext cx="4228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blood is needed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technology allows us to test minute amounts of blood, but the sample does not hold substantial weight like a large s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actions from the antigens and DNA fingerprinting could degrade smal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refaction- the decay of cells due to bacterial activity in ol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rology-Defin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antigen/antibody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biological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, sweat, tears, saliva, seme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10160" y="2352600"/>
            <a:ext cx="42289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done with blood evidenc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often tells the story of how and when things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of bloodstain is difficult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 su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re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retor is a person who provide blood typing requirements in all body flu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aliva, semen, gastric jui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nfuse blood typing with DNA typing – you can obtain DNA from all body fluids of every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TYPING AND BLOOD TYPING ARE NOT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you know if a stain is blood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mptiv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tle-Meyer Colo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ast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stle-Meyer Color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phenolphthalein + hydrogen peroxide = deep pink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 color test, it is only considered presum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Positives: Potatoes and Horsera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67080" y="247644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mastix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2567160"/>
            <a:ext cx="4114800" cy="2381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astix strip moistened with distilled water + blood sample = gree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color test and thus is presum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minol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ol + blood + dark =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viewed in the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etect bloodstains diluted up to 10,000,000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19680" y="26859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crocrystalline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ativ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opular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y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ich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sions depend on chemical additions to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s susceptible to interferences of cont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79440" y="2209680"/>
            <a:ext cx="2392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cipitin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antiserum added to blood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gglutination occurs, then the sample is human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ethods: capillary tube, gel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on samples up to 10-15 y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produced positive test on 4-5 thousand year old mum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3886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 human blood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ill use the precipitin test with other antise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species specific antiserum, a serologist can determine the source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NA Fingerprinting/Typ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pater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inherit your blood type from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ernity confirmation plays a role in child support, custody, vis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has role in crimes that involve kidnapping, insurance fraud, an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15080" y="2610000"/>
            <a:ext cx="36194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t, I was not even at the crime scene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eave behind a body fluid sample, it proves your presence at th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logical evidence has more weight than fingerpri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in cases of paternity and ance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of hereditary material is done through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found o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46, 23 from mother, 23 from father, found in pairs resulting in 23 chromosomes in norm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–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 –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lways donate X, Males donate either X 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- Position of a gene on a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- alternative forms of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- AA,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-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- always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- not seen if dominant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minant- not seen in ful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tics continued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- specific genetic make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type- observ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net Square- diagram of genetic pos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2000160"/>
            <a:ext cx="4229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iz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st common body fluid left behind at a crime sc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289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Inf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portion of whol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proteins, enzymes, clotting factors, electrolytes, and 3 types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ytes –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ythrocytes –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s – cells involved in clo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Seru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lood clots and the clotted material is removed, a yellowish liquid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ish fluid is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contains the majority of proteins and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contains the anti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2657520"/>
            <a:ext cx="4229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ortant compon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mponents of blood are very important to forensic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BC’s and se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se two components, a serologist can determine blood type from any sample or s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ore than 100 blood factors known, it is theoretically impossible for two people other than identical twins to have the same combination of blood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Typ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Karl Landsteiner – responsible for ABO blood typing system, allowed for safe matching of blood donor to recip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blood type helps to narrow the suspec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Typ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antigens present o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a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– b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antigen – Rh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in most people, responsible for violent antigen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armful if Rh negative meets Rh positive during 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0:09:22Z</dcterms:created>
  <dc:creator>Adam's Homepage</dc:creator>
  <dc:description/>
  <cp:keywords/>
  <dc:language>en-US</dc:language>
  <cp:lastModifiedBy>Adam's Homepage</cp:lastModifiedBy>
  <dcterms:modified xsi:type="dcterms:W3CDTF">2008-02-03T03:07:25Z</dcterms:modified>
  <cp:revision>3</cp:revision>
  <dc:subject/>
  <dc:title>Ser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33</vt:lpwstr>
  </property>
</Properties>
</file>